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88400" cy="9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4360" y="0"/>
            <a:ext cx="307044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6920" y="708120"/>
            <a:ext cx="4713480" cy="353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56440"/>
            <a:ext cx="307008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4360" y="8956440"/>
            <a:ext cx="3070440" cy="471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B971958-B95E-4366-B109-2E183B47C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7280" y="70812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7760" y="4479480"/>
            <a:ext cx="5670360" cy="4243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e white notebook. – Lesson One. (10 Mi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Tiger Ris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Novel/auth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outs: Be a Word Detective, Anticipation Gui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86E-10B2-416B-8C75-9444942C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908-658C-434E-A7B5-20154819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BEA-D399-430B-83FA-93CCB259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9F80-78E0-4A4B-BB8B-A6ED6D7F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2F4-5837-403D-81B4-75152EB5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AAD-F761-426D-98FD-7455F4E6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847-E098-4FE0-909C-E2C6D462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DFE-66AF-44C7-9B76-F18C7DB9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3ED-D920-468A-AABD-003E5464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9C9-D705-4300-B79D-35437E0A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174-3F44-485B-A106-4B6B7151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878-61F6-41C8-9974-CCCD7CA5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2B8E-4630-4E16-BD3C-C182CF651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ualitylondonapartments.co.uk/index.php/215/valentines-day-london-romeo-juliet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brainyquote.com/quotes/quotes/m/michelange161309.html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tuff.co.nz/4466060a4560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day, August 25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19320" y="60948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Taking the Scholastic Reading Inventory (S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57200" y="1447920"/>
            <a:ext cx="1143000" cy="2266920"/>
            <a:chOff x="457200" y="1447920"/>
            <a:chExt cx="1143000" cy="2266920"/>
          </a:xfrm>
        </p:grpSpPr>
        <p:pic>
          <p:nvPicPr>
            <p:cNvPr id="53" name="" descr="The Tiger Rising"/>
            <p:cNvPicPr/>
            <p:nvPr/>
          </p:nvPicPr>
          <p:blipFill>
            <a:blip r:embed="rId1"/>
            <a:stretch/>
          </p:blipFill>
          <p:spPr>
            <a:xfrm>
              <a:off x="457200" y="1447920"/>
              <a:ext cx="1143000" cy="19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18920" y="33465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20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467480" y="1447920"/>
            <a:ext cx="1143000" cy="2274120"/>
            <a:chOff x="7467480" y="1447920"/>
            <a:chExt cx="1143000" cy="2274120"/>
          </a:xfrm>
        </p:grpSpPr>
        <p:pic>
          <p:nvPicPr>
            <p:cNvPr id="56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467480" y="1447920"/>
              <a:ext cx="1143000" cy="189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701480" y="335376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60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12960" y="380052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70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No Image Found"/>
          <p:cNvPicPr/>
          <p:nvPr/>
        </p:nvPicPr>
        <p:blipFill>
          <a:blip r:embed="rId4"/>
          <a:stretch/>
        </p:blipFill>
        <p:spPr>
          <a:xfrm>
            <a:off x="5257800" y="1905120"/>
            <a:ext cx="1143000" cy="1895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50640" y="3833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0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book cover of &#10;&#13;To Kill a Mockingbird &#10;&#13;by&#10;&#13;Harper Lee"/>
          <p:cNvPicPr/>
          <p:nvPr/>
        </p:nvPicPr>
        <p:blipFill>
          <a:blip r:embed="rId5"/>
          <a:stretch/>
        </p:blipFill>
        <p:spPr>
          <a:xfrm>
            <a:off x="2822400" y="1905120"/>
            <a:ext cx="1140120" cy="191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20" y="3657600"/>
            <a:ext cx="19047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6633"/>
                </a:solidFill>
                <a:latin typeface="Arial"/>
              </a:rPr>
              <a:t>Why Do I Have to Take This Test AGAIN?!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The purpose of the SRI is to describe what level of text complexity a student can read and comprehend with 75% accuracy, regardless of the student’s initial ability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4114800"/>
            <a:ext cx="190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6633"/>
                </a:solidFill>
                <a:latin typeface="Arial"/>
              </a:rPr>
              <a:t>What is the Lexile Scale?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The Lexile Framework provides a common scale for matching reader ability and text difficulty.  The score range is 100L to 1700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4267080"/>
            <a:ext cx="1905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6633"/>
                </a:solidFill>
                <a:latin typeface="Arial"/>
              </a:rPr>
              <a:t>What is an S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SEM stands for Standard Error of measurement and it indicated to what degree a student’s test score reflects his/her “true ability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3657600"/>
            <a:ext cx="190476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996633"/>
                </a:solidFill>
                <a:latin typeface="Arial"/>
              </a:rPr>
              <a:t>When have I shown progres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A student has shown change in ability that is not attributable to chance, when their score exceeds his original score by the number of points that represent two (2) SE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990720"/>
            <a:ext cx="5715000" cy="844560"/>
          </a:xfrm>
          <a:prstGeom prst="rect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63600"/>
                <a:tab algn="l" pos="2743200"/>
                <a:tab algn="l" pos="4464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low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i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ici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v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1263600"/>
                <a:tab algn="l" pos="2743200"/>
                <a:tab algn="l" pos="4464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L-599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00L-999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L-1199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00L-1700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 September 5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2680" y="594360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A GREAT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SCHOOL MOND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23562" r="0" b="0"/>
          <a:stretch/>
        </p:blipFill>
        <p:spPr>
          <a:xfrm>
            <a:off x="4038480" y="1523880"/>
            <a:ext cx="4743720" cy="5067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251240" y="1203480"/>
            <a:ext cx="48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orky's"/>
              </a:rPr>
              <a:t>THE WRI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838080"/>
            <a:ext cx="4267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analyze &amp; understand the following themes: friendship, confli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urn in ALL of your work today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Tiger Ri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it Ex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676160" y="3276720"/>
            <a:ext cx="69339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Harrington"/>
              </a:rPr>
              <a:t>The Tiger Rising </a:t>
            </a:r>
            <a:r>
              <a:rPr b="0" lang="en-US" sz="2000" spc="-1" strike="noStrike">
                <a:solidFill>
                  <a:srgbClr val="ffffff"/>
                </a:solidFill>
                <a:latin typeface="Harrington"/>
              </a:rPr>
              <a:t>by Kate DiCam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arrington"/>
              </a:rPr>
              <a:t>This novel is about cages – the consequences of escape as well as imprisonme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arringto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Harrington"/>
              </a:rPr>
              <a:t>I know something that’s in a cage,” said Rob, pushing the words past the tightness of his thr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esday, August 26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he Tiger Rising"/>
          <p:cNvPicPr/>
          <p:nvPr/>
        </p:nvPicPr>
        <p:blipFill>
          <a:blip r:embed="rId1"/>
          <a:stretch/>
        </p:blipFill>
        <p:spPr>
          <a:xfrm>
            <a:off x="228600" y="3048120"/>
            <a:ext cx="1308240" cy="2255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8352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 To analyze &amp; understand the following themes: friendship, conflict, 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5000760"/>
            <a:ext cx="1504800" cy="1695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91040" y="5122800"/>
            <a:ext cx="5984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ment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oduce no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 out book assignment  (due 9/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vocabulary for Chapters 1-6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1-6 aloud in 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nesday, August 27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8352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analyze &amp; understand the following themes: friendship, conflict, 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3352680"/>
            <a:ext cx="6248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te vocabulary for Chapters 7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ut: Rob’s suit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: Sym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7-12 silently in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p. 22-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590920" cy="2158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5054760"/>
            <a:ext cx="8763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ymbolis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 Something that on the surface is its literal self but which also has another meaning or even several meanings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 exam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 sword may be a sword and also symbolize justice. A symbol may be said to embody an idea. There are two general types of symbols: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niversal symbo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embody universally recognizable meanings wherever used, such as light to symbolize knowledge, a skull to symbolize death, etc.,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structed symbo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are given symbolic meaning by the way an author uses them in a literary work, as the tiger becomes a symbol of the feelings and dreams that Rob has kept down for so lo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e4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rsday, August 28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52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analyze &amp; understand the following themes: friendship, conflict, 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4724280" cy="3092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9880" y="281952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ocabulary - Chapters 13-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ut -  Sistine’s Firs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949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- 13-28 silently in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p. 45-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617076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aw the angel in the marble and carved until I set him free. </a:t>
            </a:r>
            <a:br>
              <a:rPr sz="18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ichelangel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iday, August 29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35200"/>
            <a:ext cx="4343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analyze &amp; understand the following themes: friendship, conflict, 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45720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y - Chapters 19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ut -  It’s Not Just A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– 19-24 silently in cla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p. 69-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Image..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990720"/>
            <a:ext cx="4457520" cy="4552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06600" y="579132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A GREAT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SCHOOL MOND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Friday August 29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1066680"/>
            <a:ext cx="52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** To analyze &amp; understand the following themes: friendship, conflict, 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886200"/>
            <a:ext cx="38862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Vocabulary - Chapters 25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Handout –Vocabulary Hand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34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Read – 25-30 silently in class                    (pp. 94-1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760" y="1066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3040" y="3124080"/>
            <a:ext cx="44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Tuesday September 2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550880"/>
            <a:ext cx="52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** To analyze &amp; understand the following themes: friendship, conflict, 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80040"/>
            <a:ext cx="754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9280" indent="-1889280">
              <a:tabLst>
                <a:tab algn="l" pos="0"/>
                <a:tab algn="l" pos="145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Assignment: 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ook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45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Vocabulary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45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45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Begin writing the 5-Paragraph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9280" indent="-1889280">
              <a:tabLst>
                <a:tab algn="l" pos="0"/>
                <a:tab algn="l" pos="1455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11574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86200"/>
            <a:ext cx="44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047760" cy="2536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3581280"/>
            <a:ext cx="35053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riting Domain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ginative/Narrativ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tell what happens, real or imaginary.  Put in time sequ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tical/Expository/Persuasiv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explain, analyze, or persua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sory/Descriptiv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describe in vivid sensory detail; express individual feel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actical/Informativ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present information clear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nesday September 3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3733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analyze &amp; understand the following themes: friendship, confli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52680" y="594360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A GREAT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SCHOOL MOND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3562" r="0" b="0"/>
          <a:stretch/>
        </p:blipFill>
        <p:spPr>
          <a:xfrm>
            <a:off x="4038480" y="1523880"/>
            <a:ext cx="4743720" cy="506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251240" y="1203480"/>
            <a:ext cx="48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orky's"/>
              </a:rPr>
              <a:t>THE WRI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52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ursday September 4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38080"/>
            <a:ext cx="37339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1, 8,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read &amp; analyze the novel, its characters, themes, symbols, &amp; mot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compare &amp; contrast characters within the no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 To analyze &amp; understand the following themes: friendship, confli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,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id you pick up your hand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9520" indent="-1379520">
              <a:tabLst>
                <a:tab algn="l" pos="0"/>
                <a:tab algn="l" pos="137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52680" y="5943600"/>
            <a:ext cx="30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A GREAT WEE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SCHOOL MOND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23562" r="0" b="0"/>
          <a:stretch/>
        </p:blipFill>
        <p:spPr>
          <a:xfrm>
            <a:off x="4038480" y="1523880"/>
            <a:ext cx="4743720" cy="5067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251240" y="1203480"/>
            <a:ext cx="48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orky's"/>
              </a:rPr>
              <a:t>THE WRI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03:10:42Z</dcterms:created>
  <dc:creator>Lisa Williams</dc:creator>
  <dc:description/>
  <dc:language>en-US</dc:language>
  <cp:lastModifiedBy>admin</cp:lastModifiedBy>
  <dcterms:modified xsi:type="dcterms:W3CDTF">2008-08-26T18:06:02Z</dcterms:modified>
  <cp:revision>23</cp:revision>
  <dc:subject/>
  <dc:title>The Tiger Rising by Kate DiCamillo</dc:title>
</cp:coreProperties>
</file>